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3880" y="1397160"/>
            <a:ext cx="6096240" cy="406368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20040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2320" y="5029200"/>
            <a:ext cx="260604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</a:rPr>
              <a:t>All rights 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0"/>
            <a:ext cx="4648320" cy="6858000"/>
          </a:xfrm>
          <a:custGeom>
            <a:avLst/>
            <a:gdLst>
              <a:gd name="textAreaLeft" fmla="*/ 360 w 4648320"/>
              <a:gd name="textAreaRight" fmla="*/ 4647960 w 46483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31867">
                <a:moveTo>
                  <a:pt x="7" y="0"/>
                </a:moveTo>
                <a:arcTo wR="7" hR="7" stAng="16200000" swAng="-5400000"/>
                <a:lnTo>
                  <a:pt x="0" y="31860"/>
                </a:lnTo>
                <a:arcTo wR="7" hR="7" stAng="10800000" swAng="-5400000"/>
                <a:lnTo>
                  <a:pt x="21593" y="3186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009440" cy="1009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37920" y="5029200"/>
            <a:ext cx="151344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No r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0"/>
            <a:ext cx="3352680" cy="6858000"/>
          </a:xfrm>
          <a:custGeom>
            <a:avLst/>
            <a:gdLst>
              <a:gd name="textAreaLeft" fmla="*/ 360 w 3352680"/>
              <a:gd name="textAreaRight" fmla="*/ 3352320 w 335268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4181">
                <a:moveTo>
                  <a:pt x="10" y="0"/>
                </a:moveTo>
                <a:arcTo wR="10" hR="10" stAng="16200000" swAng="-5400000"/>
                <a:lnTo>
                  <a:pt x="0" y="44171"/>
                </a:lnTo>
                <a:arcTo wR="10" hR="10" stAng="10800000" swAng="-5400000"/>
                <a:lnTo>
                  <a:pt x="21590" y="44181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320040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2320" y="5029200"/>
            <a:ext cx="260604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</a:rPr>
              <a:t>All rights 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0"/>
            <a:ext cx="4648320" cy="6858000"/>
          </a:xfrm>
          <a:custGeom>
            <a:avLst/>
            <a:gdLst>
              <a:gd name="textAreaLeft" fmla="*/ 360 w 4648320"/>
              <a:gd name="textAreaRight" fmla="*/ 4647960 w 46483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31867">
                <a:moveTo>
                  <a:pt x="7" y="0"/>
                </a:moveTo>
                <a:arcTo wR="7" hR="7" stAng="16200000" swAng="-5400000"/>
                <a:lnTo>
                  <a:pt x="0" y="31860"/>
                </a:lnTo>
                <a:arcTo wR="7" hR="7" stAng="10800000" swAng="-5400000"/>
                <a:lnTo>
                  <a:pt x="21593" y="3186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009440" cy="1009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37920" y="5029200"/>
            <a:ext cx="151344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No r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0"/>
            <a:ext cx="3352680" cy="6858000"/>
          </a:xfrm>
          <a:custGeom>
            <a:avLst/>
            <a:gdLst>
              <a:gd name="textAreaLeft" fmla="*/ 360 w 3352680"/>
              <a:gd name="textAreaRight" fmla="*/ 3352320 w 335268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4181">
                <a:moveTo>
                  <a:pt x="10" y="0"/>
                </a:moveTo>
                <a:arcTo wR="10" hR="10" stAng="16200000" swAng="-5400000"/>
                <a:lnTo>
                  <a:pt x="0" y="44171"/>
                </a:lnTo>
                <a:arcTo wR="10" hR="10" stAng="10800000" swAng="-5400000"/>
                <a:lnTo>
                  <a:pt x="21590" y="44181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62520" y="32767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320040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2320" y="5029200"/>
            <a:ext cx="260604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</a:rPr>
              <a:t>All rights 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0"/>
            <a:ext cx="4648320" cy="6858000"/>
          </a:xfrm>
          <a:custGeom>
            <a:avLst/>
            <a:gdLst>
              <a:gd name="textAreaLeft" fmla="*/ 360 w 4648320"/>
              <a:gd name="textAreaRight" fmla="*/ 4647960 w 46483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31867">
                <a:moveTo>
                  <a:pt x="7" y="0"/>
                </a:moveTo>
                <a:arcTo wR="7" hR="7" stAng="16200000" swAng="-5400000"/>
                <a:lnTo>
                  <a:pt x="0" y="31860"/>
                </a:lnTo>
                <a:arcTo wR="7" hR="7" stAng="10800000" swAng="-5400000"/>
                <a:lnTo>
                  <a:pt x="21593" y="3186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009440" cy="100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37920" y="5029200"/>
            <a:ext cx="151344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No r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0"/>
            <a:ext cx="3352680" cy="6858000"/>
          </a:xfrm>
          <a:custGeom>
            <a:avLst/>
            <a:gdLst>
              <a:gd name="textAreaLeft" fmla="*/ 360 w 3352680"/>
              <a:gd name="textAreaRight" fmla="*/ 3352320 w 335268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4181">
                <a:moveTo>
                  <a:pt x="10" y="0"/>
                </a:moveTo>
                <a:arcTo wR="10" hR="10" stAng="16200000" swAng="-5400000"/>
                <a:lnTo>
                  <a:pt x="0" y="44171"/>
                </a:lnTo>
                <a:arcTo wR="10" hR="10" stAng="10800000" swAng="-5400000"/>
                <a:lnTo>
                  <a:pt x="21590" y="44181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62520" y="32767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36080" y="5029200"/>
            <a:ext cx="179244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</a:rPr>
              <a:t>Some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</a:rPr>
              <a:t>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26920" y="765000"/>
            <a:ext cx="7263000" cy="51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72480" y="1600200"/>
            <a:ext cx="2526840" cy="155772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License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286000" y="258588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286000" y="34243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286000" y="42624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2286000" y="510552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54400" y="2666880"/>
            <a:ext cx="163692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At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87800" y="3500280"/>
            <a:ext cx="28162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No Commercial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89240" y="4365720"/>
            <a:ext cx="27388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No Derivativ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97240" y="5157720"/>
            <a:ext cx="1675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Share a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286000" y="5105520"/>
            <a:ext cx="673200" cy="67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9240" y="1600200"/>
            <a:ext cx="2671560" cy="155772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Three Expre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68080" y="3505320"/>
            <a:ext cx="339840" cy="460440"/>
          </a:xfrm>
          <a:custGeom>
            <a:avLst/>
            <a:gdLst>
              <a:gd name="textAreaLeft" fmla="*/ 360 w 339840"/>
              <a:gd name="textAreaRight" fmla="*/ 339480 w 3398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9257">
                <a:moveTo>
                  <a:pt x="93" y="0"/>
                </a:moveTo>
                <a:arcTo wR="93" hR="93" stAng="16200000" swAng="-5400000"/>
                <a:lnTo>
                  <a:pt x="0" y="29164"/>
                </a:lnTo>
                <a:arcTo wR="93" hR="93" stAng="10800000" swAng="-5400000"/>
                <a:lnTo>
                  <a:pt x="21507" y="29257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20480" y="2590920"/>
            <a:ext cx="6042600" cy="302076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Human-Readable:  Commons D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Lawyer-Readable:  Lega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Machine-Readable:  Digital Code,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279520" y="1125360"/>
            <a:ext cx="4380120" cy="51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54160" y="635040"/>
            <a:ext cx="8635680" cy="55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085760" y="243000"/>
            <a:ext cx="6972480" cy="63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03680" y="5661000"/>
            <a:ext cx="6027480" cy="1679400"/>
          </a:xfrm>
          <a:prstGeom prst="roundRect">
            <a:avLst>
              <a:gd name="adj" fmla="val 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http://creativecommons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georg.pleger@zukunftszentrum.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914400" y="95400"/>
            <a:ext cx="7315200" cy="66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42920" y="692280"/>
            <a:ext cx="7272360" cy="54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1716" t="0" r="1373" b="0"/>
          <a:stretch/>
        </p:blipFill>
        <p:spPr>
          <a:xfrm>
            <a:off x="773280" y="152280"/>
            <a:ext cx="76244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6160" y="404640"/>
            <a:ext cx="8788320" cy="59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495440" y="304920"/>
            <a:ext cx="615312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333360"/>
            <a:ext cx="899172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erliner Erklärung über offenen Zuga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zu wissenschaftlichem 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Ziel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sere Aufgabe, Wissen zu verbreiten, ist nur halb erfüllt, wenn die Information für die Gesellschaft nicht breit gestreut und leicht zugänglich ist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ue Möglichkeiten der Wissensverbreitung nicht ausschließlich in der klassischen Form, sondern zunehmend auch nach dem Prinzip des „offenen Zugangs” über das Internet, müssen gefördert werden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s Prinzip des „Open Access” schafft daher freien Zugang zu einer umfassenden Quelle menschlichen Wissens und des kulturellen Erbes, die von der wissenschaftlichen Gemeinschaft bestätigt wur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Quelle: http://www.zim.mpg.de/openaccess-berlin/berlindeclaration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280" y="333360"/>
            <a:ext cx="899172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iener Erklärung zum freien Informationszugang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0 Thesen zur Informationsfreiheit</a:t>
            </a:r>
            <a:br>
              <a:rPr sz="24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 Bei der Verbreitung von Informationen sind die Interessen von UrheberInnen, VerwerterInnen sowie der Allgemeinheit durch die Rechtsordnung in ein gerechtes und ökonomisch sinnvolles Gleichgewicht zu brin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e Rechtsordnung ist hierzu das Instrument der Wahl. Das Recht hat Vorrang zu genießen vor technisch bedingten Tatsachen, die von beherrschenden Marktteilnehmern geschaff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Quelle: http://www.chaoscontrol.at/w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8920" y="1506600"/>
            <a:ext cx="4674240" cy="418032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artnerinstitutions in A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strian Computer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roler Bildungs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chhochschule Vorarlber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UBLIC VOICE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UKUNFTSZENTRUM TIRO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iftung Mozarte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0240" y="1506600"/>
            <a:ext cx="5398200" cy="326556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reative Commons - iComm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eative Commons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Porting the National CC-lic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Commons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Promoting the Concepts of Open Content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and Free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7840" y="538200"/>
            <a:ext cx="824832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-145080" y="360360"/>
            <a:ext cx="8894880" cy="131328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Example: www.MOZARTforALL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00000" y="1260360"/>
            <a:ext cx="7020000" cy="48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03680" y="5661000"/>
            <a:ext cx="6027480" cy="1679400"/>
          </a:xfrm>
          <a:prstGeom prst="roundRect">
            <a:avLst>
              <a:gd name="adj" fmla="val 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http://creativecommons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georg.pleger@zukunftszentrum.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333360"/>
            <a:ext cx="89917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e Global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lobal Development Goals, Global Marshall Plan till 2015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orld Intellectual Property Organizatio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eneva Declaration, Development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orld Intellectual Wealth Organiz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orld Summit on the Information Society, Tunis 2005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arter of Civil Rigths for a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ustainable Knowledge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333360"/>
            <a:ext cx="899172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harter of Civil Rights for a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ustainable Knowledge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Knowledge is the heritage and the property of humanity and is thus free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ccess to knowledge must be free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gital divide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320040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320040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2320" y="5029200"/>
            <a:ext cx="260604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</a:rPr>
              <a:t>All rights 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0"/>
            <a:ext cx="4648320" cy="6858000"/>
          </a:xfrm>
          <a:custGeom>
            <a:avLst/>
            <a:gdLst>
              <a:gd name="textAreaLeft" fmla="*/ 360 w 4648320"/>
              <a:gd name="textAreaRight" fmla="*/ 4647960 w 46483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31867">
                <a:moveTo>
                  <a:pt x="7" y="0"/>
                </a:moveTo>
                <a:arcTo wR="7" hR="7" stAng="16200000" swAng="-5400000"/>
                <a:lnTo>
                  <a:pt x="0" y="31860"/>
                </a:lnTo>
                <a:arcTo wR="7" hR="7" stAng="10800000" swAng="-5400000"/>
                <a:lnTo>
                  <a:pt x="21593" y="3186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320040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0880" y="5029200"/>
            <a:ext cx="260604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</a:rPr>
              <a:t>All rights 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0"/>
            <a:ext cx="4648320" cy="6858000"/>
          </a:xfrm>
          <a:custGeom>
            <a:avLst/>
            <a:gdLst>
              <a:gd name="textAreaLeft" fmla="*/ 360 w 4648320"/>
              <a:gd name="textAreaRight" fmla="*/ 4647960 w 46483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31867">
                <a:moveTo>
                  <a:pt x="7" y="0"/>
                </a:moveTo>
                <a:arcTo wR="7" hR="7" stAng="16200000" swAng="-5400000"/>
                <a:lnTo>
                  <a:pt x="0" y="31860"/>
                </a:lnTo>
                <a:arcTo wR="7" hR="7" stAng="10800000" swAng="-5400000"/>
                <a:lnTo>
                  <a:pt x="21593" y="3186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009440" cy="10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320040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2320" y="5029200"/>
            <a:ext cx="260604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</a:rPr>
              <a:t>All rights 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0"/>
            <a:ext cx="4648320" cy="6858000"/>
          </a:xfrm>
          <a:custGeom>
            <a:avLst/>
            <a:gdLst>
              <a:gd name="textAreaLeft" fmla="*/ 360 w 4648320"/>
              <a:gd name="textAreaRight" fmla="*/ 4647960 w 46483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31867">
                <a:moveTo>
                  <a:pt x="7" y="0"/>
                </a:moveTo>
                <a:arcTo wR="7" hR="7" stAng="16200000" swAng="-5400000"/>
                <a:lnTo>
                  <a:pt x="0" y="31860"/>
                </a:lnTo>
                <a:arcTo wR="7" hR="7" stAng="10800000" swAng="-5400000"/>
                <a:lnTo>
                  <a:pt x="21593" y="3186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009440" cy="100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37920" y="5029200"/>
            <a:ext cx="151344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No r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